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6AD-4512-4DBF-9E6E-D9F06BD2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A03-687F-40F1-B6EA-7B77F13E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3F9-FB65-4EE1-83F3-597B26FB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A02-3C47-4C6C-8FDE-C0EE8910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4310-B468-4675-B9A7-542B93B8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F33D-52E0-4332-9368-7CB43E94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3D73-80CC-4E98-BDF2-9299E89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8D10-4BE0-4ADF-9FFC-B4ABD0FA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263D-E9F6-4AC0-B245-6F5214E9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9396-991A-4F22-838D-82C532EF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CF9B-11C1-4932-B2D1-CF10CD4D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5ED-ACD2-4831-B939-ED53A8FD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7E78-6916-4367-8438-72F072DE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196-F3C3-4EE6-B08C-C0202204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DB3A-7E43-4746-AE95-B9D6D279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C9A7-C5C2-45BE-A9D7-5839B7FA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B2FB-2D94-4784-A0AE-C252CE9F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B9967-5D80-4B8D-9973-BB99BF01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1C28-4951-43E1-A910-66D30E93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9A55-EEA1-454C-85C9-2DA95A89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E88F-EB1B-4BA6-B8B2-A884A8A1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F293-4F8A-418A-97D5-CE499F0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DB5-8077-458D-BDEA-9690192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1463-24EA-4FD5-8B40-02C08324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2190-DA6E-400F-A78F-482B9EE5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FC97-CA84-4464-B296-3D896486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D360-4203-4EE9-A602-C84A7540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9ABF-B20E-4484-AA97-17F22D68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BBF8-97C1-4FC6-AF19-C69C419A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14F4-5366-4D26-B294-135555F7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D59-8EBA-428E-BFC2-223C038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3F7-85D2-4C92-B5F5-A18D2469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835-908B-4619-A27F-1A84EDB4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F96-4D56-485C-825E-DA3E6840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D2F-FC58-41E0-9667-EAB935ED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C2A-EE4B-477A-B43E-2FBD7C3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6E59-BC09-49E0-94DD-D228235F2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EC35-96FE-46A6-8F04-CDDD75473DE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7D48-5993-4B36-BA36-57CFF56F20E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 rot="20846400">
            <a:off x="914400" y="144756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igh Tower Text"/>
              </a:rPr>
              <a:t>Sesiunea iunie-iulie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igh Tower Text"/>
              <a:ea typeface="High Tow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  <a:ea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nsamblu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s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totodat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 Asia de Sud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ei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8T11:11:56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